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ACC0-6BF5-4EFC-BFFB-1AACF9E1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B0F-3439-4B7E-96C9-D74FFC1B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1649F-756A-4F38-99DD-2EB978C7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359CF-9D20-43AB-9B1D-3164DE8E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CBEAA-F2F9-4FB4-8022-8C053B3A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88FCD-60F2-4241-AF83-4AAD167B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94BFD-516B-4ACF-8B49-FAEE2BD1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CD83E-E159-4A9C-8CBE-F1D309F2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B11A9-CF4A-4382-ABBD-D05BA1D3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FD5CC-C8A8-4690-AB0A-A2A8BF13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C3287-53FF-46C6-BBE6-394877E4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02A51-DABD-4EC5-A8C8-2B41C13E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9FC-3018-4C5F-B177-2E65E60F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26D9B-BCD3-4C66-98E0-5518E891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D46C6-0B23-4B66-9F54-C5CC7E2D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013A2-39B2-4DE7-8A58-F7C80998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CBE3F-3C5A-4372-831F-A40F8F17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0045D-19FF-4199-AC6C-7A6C66DA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2DAB9-4394-4DC1-8D26-79E44437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34D0B-7CD1-43B8-872D-C5B080DF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B7AB6-6E28-4FEA-8833-5C39BA50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11025-BF60-4525-ACBB-EB13BC6A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E03BC-9988-4F87-B652-EE3569BE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96A-357C-4868-9A96-8FC60F20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07177-2970-4EE9-8C5F-E8B23BC0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E6805-5CF7-4B99-96AE-DAF523884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BF713-54C1-446B-97D2-99403441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6E4E2-CE2E-4A23-961C-43D03E61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D5DA7-FEE0-4562-BF1F-861B3517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63763-7C6F-49B1-B77A-23BFAF30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28144-F706-4B82-BF49-F544DA1E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C374A-9D98-47EA-B41D-C43F6F5B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D1A37-FADE-48F9-A5B2-F18B4E8D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FDCAE-64CF-4F44-80FE-C583647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4ABF-C3FA-49CC-B147-2F46811F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3B81E-C207-40CF-985D-96CE1736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7A633-9266-41A7-9D4B-144E4792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216F5-2011-455A-AE19-BAEC5435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69C79-2755-43C4-9C39-4C8F9EC2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4BF6A-8132-4F74-B1F4-B27B6262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147D8-BD2F-419B-98FB-2FE4A8FB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7A95A-00E1-4F5A-8A7E-6B80305B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54FCC-47E8-4A81-8105-033A8B5F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FC2E3-9C4B-4350-B5A7-0860920E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087E8-4119-4798-BC22-B3FA3099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F87D-C011-45AB-BA16-04CDDC9C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7B858-C755-414B-A3EF-BCC72284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0EFA2-A33C-43C2-AD89-DF3FAD4B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F5E7C-7D02-4903-9C7A-3C945CA2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8B0CD-54C8-459E-9DAB-AEB1D4E1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BED23-7988-4104-9E17-190BD434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FB8D-D27A-4F2B-8181-03B63682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0DB5-6F47-40CB-9E49-D9E21A89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1F57-46B6-4469-AC9C-8AEAF624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17DF-486E-47F8-8991-BCBB8D37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0669-0C4D-4981-A1F5-FB23AF13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830-A4CC-49DF-B4E9-C5F9A3FD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B897-264E-48E6-A596-49C707EA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1471-1B0C-4084-8CC1-4575AD4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A755-32A3-44C0-8ED7-51CD4495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4A71-02F9-444D-9C66-DAFCE0AC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41FE-43AF-4577-82E8-19A35AF9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A940-6865-4888-9A40-24DF37B0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12C6-CF8F-448C-88FE-C53A8644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20066-FB05-4A4A-B32B-5C992AAB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A4334-0262-4B2C-B8C1-54EB87F5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DF8AC-0883-476E-882D-7AFEFCD6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966-3A1F-4EA1-B5C1-17D85A0B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C5C6F-7457-4875-9C4B-AC87E903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B53C-3FAA-4719-8C47-A77F0DF2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D5E0-2836-41A6-A94C-75D3FFE2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774C-FF45-46EF-BD16-9707EBDB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B6A7-1F0E-4DA1-8220-41A05C3D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537C5-DC83-40D9-894D-3EFF35DC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1495-CAE8-4F3F-B0C3-A626E1E7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FBEE6-714A-4D95-95AE-7E1965B4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D75F-9DB4-433A-88A8-2E401F79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E5CEC-EAC8-4BCA-B8E7-2A8941B7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054D-87BE-40DE-94BB-0F2E1A0A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2C750-B061-4F9D-A925-DCE38AE9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02FF4-EC91-477A-8CA6-1A23C6C8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A8FE-B517-455A-AE1C-DCE35108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389D-1286-480F-9031-9526E27C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75CE6-62C6-4E7E-A45C-181B6B29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BD579-15BE-4477-8BBB-5BC87F18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AAEE0-DE23-437D-B68A-78303180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7F68-5254-4867-8154-AEDF1E08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C8219-34E7-4DD6-B3E9-315B6D8C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C033B-6DF7-4D20-A043-A4836E49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DCC-E04E-47FA-A399-228B5122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CC488-6600-45C6-9089-18F6B47B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32310-EF76-462B-A755-16D634C3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783C-D2B9-46BA-A625-CA1177F5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4DFCA-6D1C-4E1C-9028-45262DA5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7BC24-5CDF-41C8-95BF-E54130D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CF716-840E-4BA9-AD00-9D93F36D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AF9C4-9317-4064-A74B-45D509DC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D88B6-54A2-4339-98A0-576FC8D1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9C0C-1433-4544-9414-4F643E3B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E1C3A-A52A-4620-BA0B-E80FB4D8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3A0-8F5A-48CF-B19E-1D89D40F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6C3E6-DAAC-405E-A9DA-FF6C3EE7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ABE04-70CE-45E1-9551-C005958B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F50F9-3196-4E52-989E-2959E6C4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EBA6E-C9C1-4854-8A66-B6DCBF9A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B81D4-849C-4E56-9738-6599EEE4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63982-6CEF-4A97-B410-55C5A2AF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AAE90-315D-4AA8-B7CB-DBB7E2C8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EC1CE-CF12-420C-BA4F-57FC534C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AA1DC-5D2E-40D3-8EEB-8456FA6A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16C45-0C5E-4D61-A0D9-F777BD22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DEC-929A-4E9B-BBDD-0FBEE02C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C56BF-FAE9-424D-BBE4-DFCBFEDC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D73E3-C33C-49FE-B3B5-42A39F15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536D8-D451-4A8E-A7B0-4E749F4F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D24E6-DC94-40DC-9BCA-A93DE1E6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42AF6-9F2B-4FEB-928F-AD733E12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F8B30-DE82-4A7C-83C9-C8258A08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F4C11-E083-45C3-9613-E7CAC257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2120A-C503-40D6-A936-3B683ABF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3EF07-5ABD-4008-A383-2C65C415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E841E-DE9A-4012-850B-7E8A05CD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A72-C106-4CFC-A69D-99E188B5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D6EE0-35B1-4CEE-8467-23901478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7AB75-6CC9-46FC-846F-DFFCB5D0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B0FF-3DB2-4BC8-90AB-69233E37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2F9AE-D45F-4A76-B5CF-1BC3C289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242AA-5CA0-4C72-9ECF-E93B9A99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C9FD2-68FD-4253-B828-50693A90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24A63-388F-41D5-840E-351AC82F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93DAD-7B6B-47D6-BB90-1F135E7B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4E849-4187-4629-8671-C7FA0B2F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EA5D0-CE00-43F6-95A3-39FB8534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6C2E-4183-41E5-9160-7B12DCDF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6B5DC-B7AB-46FF-8B16-41412687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47191-DE93-4AFD-920C-FD526D2F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97BBE-F239-41D1-96F8-F33C662B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EAAC3-94C8-4E51-B174-5F5EEFF7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4F211-5F76-4872-9C3B-1D26E7F6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19750-F9EA-4AF8-AB54-9B978EC7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D0F0B-EB5E-4BAD-9E93-5A8468F2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61709-09DA-4AEA-956E-73F3E6FA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000D7-8507-48BE-BF82-C5D218C8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5C76C-3DF4-496F-A8C0-4FAA5606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EB53-002C-47EC-BDFE-F2764AED524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5932-C588-4DCB-9C2D-0A00F819F4C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D6C7-0CA5-4B61-A480-1B62D1883B0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4D21-0318-4216-BF1B-52B559E8A2C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E2EF-788E-4549-9C4C-15D6C251B91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49C7-5BA9-4D19-9A0F-5DAA448E732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D93F-720D-4ABD-8CAF-622DA9A4E81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D9AB-7C99-4879-A471-98BC4881159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6D51-D2E8-49C2-9C8A-A9B08466F6C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FF1D-8AEC-4F18-A99C-82669FF9ECC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9284-C4BF-4DC2-8293-F3675D132DB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Slika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6EC8-56A4-4A78-BE37-145512B51FA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  <a:ea typeface="Arial"/>
              </a:rPr>
              <a:t>R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648320" y="5714640"/>
            <a:ext cx="4495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Arial"/>
                <a:ea typeface="Arial"/>
              </a:rPr>
              <a:t>Energ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-151560" y="1676520"/>
            <a:ext cx="98474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Što razumijevamo pod radom u fizici, a što u svakidašnjem život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a je osnovna mjerna jedinica za r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oji je znak za rad kao fizikalnu veličinu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Marko I Luka guraju dvije jednake kutije s jednog kraja prostori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na drugi, prevaljujući pritom jednak put. Ako Luka djeluje tri pu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  <a:ea typeface="Arial"/>
              </a:rPr>
              <a:t>većom silom, usporedi radove koje oni obave. Objasni svoj odgov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Slika 1" descr=""/>
          <p:cNvPicPr/>
          <p:nvPr/>
        </p:nvPicPr>
        <p:blipFill>
          <a:blip r:embed="rId1"/>
          <a:stretch/>
        </p:blipFill>
        <p:spPr>
          <a:xfrm>
            <a:off x="228600" y="1050840"/>
            <a:ext cx="273528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4"/>
          <p:cNvSpPr/>
          <p:nvPr/>
        </p:nvSpPr>
        <p:spPr>
          <a:xfrm>
            <a:off x="38088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Što sve smatramo radom u svakidašnjem živ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ada i kako ti obavljaš r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" descr=""/>
          <p:cNvPicPr/>
          <p:nvPr/>
        </p:nvPicPr>
        <p:blipFill>
          <a:blip r:embed="rId1"/>
          <a:stretch/>
        </p:blipFill>
        <p:spPr>
          <a:xfrm>
            <a:off x="3352680" y="3106800"/>
            <a:ext cx="3276720" cy="2827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28954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3"/>
          <p:cNvSpPr/>
          <p:nvPr/>
        </p:nvSpPr>
        <p:spPr>
          <a:xfrm>
            <a:off x="644760" y="914400"/>
            <a:ext cx="59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bavlja li dječ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rk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u oba slučaja r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2"/>
          <p:cNvGrpSpPr/>
          <p:nvPr/>
        </p:nvGrpSpPr>
        <p:grpSpPr>
          <a:xfrm>
            <a:off x="714240" y="2571840"/>
            <a:ext cx="6831720" cy="3460320"/>
            <a:chOff x="714240" y="2571840"/>
            <a:chExt cx="6831720" cy="3460320"/>
          </a:xfrm>
        </p:grpSpPr>
        <p:pic>
          <p:nvPicPr>
            <p:cNvPr id="510" name="Picture 2" descr=""/>
            <p:cNvPicPr/>
            <p:nvPr/>
          </p:nvPicPr>
          <p:blipFill>
            <a:blip r:embed="rId1"/>
            <a:stretch/>
          </p:blipFill>
          <p:spPr>
            <a:xfrm>
              <a:off x="714240" y="2571840"/>
              <a:ext cx="2563920" cy="29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Box 11"/>
            <p:cNvSpPr/>
            <p:nvPr/>
          </p:nvSpPr>
          <p:spPr>
            <a:xfrm>
              <a:off x="962640" y="5572440"/>
              <a:ext cx="658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o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aca loptu   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o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ra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i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4724280" y="3432240"/>
            <a:ext cx="270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77933c"/>
                </a:solidFill>
                <a:latin typeface="Arial"/>
                <a:ea typeface="Arial"/>
              </a:rPr>
              <a:t>Rad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4"/>
          <p:cNvSpPr/>
          <p:nvPr/>
        </p:nvSpPr>
        <p:spPr>
          <a:xfrm>
            <a:off x="609480" y="1523880"/>
            <a:ext cx="8229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ada sila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jeluje na tijelo uzduž puta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ažemo da sila obavlja rad na tom tije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nak za ra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veslanje"/>
          <p:cNvPicPr/>
          <p:nvPr/>
        </p:nvPicPr>
        <p:blipFill>
          <a:blip r:embed="rId1"/>
          <a:stretch/>
        </p:blipFill>
        <p:spPr>
          <a:xfrm>
            <a:off x="3429000" y="3429000"/>
            <a:ext cx="56008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Box 4"/>
          <p:cNvSpPr/>
          <p:nvPr/>
        </p:nvSpPr>
        <p:spPr>
          <a:xfrm>
            <a:off x="0" y="144792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rada o s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4952880" y="312408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 je razmjeran si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714840" cy="2362320"/>
          </a:xfrm>
          <a:prstGeom prst="rect">
            <a:avLst/>
          </a:prstGeom>
          <a:ln w="0">
            <a:noFill/>
          </a:ln>
        </p:spPr>
      </p:pic>
      <p:sp>
        <p:nvSpPr>
          <p:cNvPr id="519" name="TextBox 7"/>
          <p:cNvSpPr/>
          <p:nvPr/>
        </p:nvSpPr>
        <p:spPr>
          <a:xfrm>
            <a:off x="5867280" y="44197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Slika 2" descr=""/>
          <p:cNvPicPr/>
          <p:nvPr/>
        </p:nvPicPr>
        <p:blipFill>
          <a:blip r:embed="rId2"/>
          <a:stretch/>
        </p:blipFill>
        <p:spPr>
          <a:xfrm>
            <a:off x="152280" y="911160"/>
            <a:ext cx="132876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Box 4"/>
          <p:cNvSpPr/>
          <p:nvPr/>
        </p:nvSpPr>
        <p:spPr>
          <a:xfrm>
            <a:off x="0" y="1447920"/>
            <a:ext cx="79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isnost rada o duljini p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7"/>
          <p:cNvSpPr/>
          <p:nvPr/>
        </p:nvSpPr>
        <p:spPr>
          <a:xfrm>
            <a:off x="4648320" y="289548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 je razmjeran duljini pu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5943600" y="36576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65600" cy="2157120"/>
          </a:xfrm>
          <a:prstGeom prst="rect">
            <a:avLst/>
          </a:prstGeom>
          <a:ln w="0">
            <a:noFill/>
          </a:ln>
        </p:spPr>
      </p:pic>
      <p:sp>
        <p:nvSpPr>
          <p:cNvPr id="525" name="TextBox 7"/>
          <p:cNvSpPr/>
          <p:nvPr/>
        </p:nvSpPr>
        <p:spPr>
          <a:xfrm>
            <a:off x="304920" y="5105520"/>
            <a:ext cx="8305560" cy="1008360"/>
          </a:xfrm>
          <a:prstGeom prst="rect">
            <a:avLst/>
          </a:prstGeom>
          <a:solidFill>
            <a:srgbClr val="ebf1de"/>
          </a:solidFill>
          <a:ln w="93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t je fizikalna veličina; zna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jerna jedinica metar (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Slika 7" descr=""/>
          <p:cNvPicPr/>
          <p:nvPr/>
        </p:nvPicPr>
        <p:blipFill>
          <a:blip r:embed="rId2"/>
          <a:stretch/>
        </p:blipFill>
        <p:spPr>
          <a:xfrm>
            <a:off x="152280" y="851040"/>
            <a:ext cx="135756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68580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77933c"/>
                </a:solidFill>
                <a:latin typeface="Arial"/>
                <a:ea typeface="Arial"/>
              </a:rPr>
              <a:t>Rad si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844560" y="1352520"/>
            <a:ext cx="733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Rad je proporcionalan sili i putu na kojem sila djel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d je jednak umnošku iznosa sile i puta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jemu sila djel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2"/>
              <p:cNvSpPr txBox="1"/>
              <p:nvPr/>
            </p:nvSpPr>
            <p:spPr>
              <a:xfrm>
                <a:off x="914400" y="3200400"/>
                <a:ext cx="2933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l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pu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4572000" y="3124080"/>
                <a:ext cx="22096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TextBox 4"/>
          <p:cNvSpPr/>
          <p:nvPr/>
        </p:nvSpPr>
        <p:spPr>
          <a:xfrm>
            <a:off x="483120" y="4800600"/>
            <a:ext cx="81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ko se tijelo ne giba dok sila djeluje, tada je p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 pa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avljeni rad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·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F · 0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34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Arial"/>
                <a:ea typeface="Arial"/>
              </a:rPr>
              <a:t>Mjerna j</a:t>
            </a:r>
            <a:r>
              <a:rPr b="0" lang="hr-HR" sz="3600" spc="-1" strike="noStrike">
                <a:solidFill>
                  <a:srgbClr val="77933c"/>
                </a:solidFill>
                <a:latin typeface="Arial"/>
                <a:ea typeface="Arial"/>
              </a:rPr>
              <a:t>edinica 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2"/>
              <p:cNvSpPr txBox="1"/>
              <p:nvPr/>
            </p:nvSpPr>
            <p:spPr>
              <a:xfrm>
                <a:off x="3143160" y="2071800"/>
                <a:ext cx="22860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2519280" y="3357720"/>
                <a:ext cx="36752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žu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jut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meta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TextBox 6"/>
          <p:cNvSpPr/>
          <p:nvPr/>
        </p:nvSpPr>
        <p:spPr>
          <a:xfrm>
            <a:off x="3286080" y="44290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J = 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593280" y="557208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edinica rada zove s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žul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(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103480" cy="7142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2"/>
          <p:cNvSpPr/>
          <p:nvPr/>
        </p:nvSpPr>
        <p:spPr>
          <a:xfrm>
            <a:off x="349200" y="1523880"/>
            <a:ext cx="8369280" cy="1099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Grga dinamometrom vuče kolica djelujući silom od 1 N uzduž pu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d 1 m. Koliki rad pritom obavi na kolicim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3"/>
          <p:cNvSpPr/>
          <p:nvPr/>
        </p:nvSpPr>
        <p:spPr>
          <a:xfrm>
            <a:off x="4114800" y="2971800"/>
            <a:ext cx="44197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ješe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 N;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 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 N · 1 m = 1N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1 J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3017880" cy="1295640"/>
          </a:xfrm>
          <a:prstGeom prst="rect">
            <a:avLst/>
          </a:prstGeom>
          <a:ln w="0">
            <a:noFill/>
          </a:ln>
        </p:spPr>
      </p:pic>
      <p:pic>
        <p:nvPicPr>
          <p:cNvPr id="541" name="Slika 1" descr=""/>
          <p:cNvPicPr/>
          <p:nvPr/>
        </p:nvPicPr>
        <p:blipFill>
          <a:blip r:embed="rId2"/>
          <a:stretch/>
        </p:blipFill>
        <p:spPr>
          <a:xfrm>
            <a:off x="304920" y="965160"/>
            <a:ext cx="101592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41:32Z</dcterms:created>
  <dc:creator>Slavko</dc:creator>
  <dc:description/>
  <dc:language>en-US</dc:language>
  <cp:lastModifiedBy>Tomislav Dumančić</cp:lastModifiedBy>
  <dcterms:modified xsi:type="dcterms:W3CDTF">2019-09-17T08:57:17Z</dcterms:modified>
  <cp:revision>21</cp:revision>
  <dc:subject/>
  <dc:title>Slide 1</dc:title>
</cp:coreProperties>
</file>